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60988"/>
        <c:axId val="7303780"/>
      </c:barChart>
      <c:catAx>
        <c:axId val="54060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3780"/>
        <c:crosses val="autoZero"/>
        <c:auto val="1"/>
        <c:lblAlgn val="ctr"/>
        <c:lblOffset val="100"/>
        <c:noMultiLvlLbl val="0"/>
      </c:catAx>
      <c:valAx>
        <c:axId val="7303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60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535-93EE-45BC-8688-97390E3F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3339-9402-4612-A6CB-75DF8B9B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27F-2BC7-4743-9682-9198FFD9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157-C88A-43B3-8840-FE0DAF44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86E-583C-45A0-932A-1E679455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249-250B-431B-8EB0-AB76EFDC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6D4D-932D-4369-9D2F-BFB91D20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B169-35C0-4FA8-A2D3-C66D0F01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02D-41B0-4AC4-A803-3F717096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310C-E8B5-4F2E-B902-DA17BDB7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9F6F-E78F-4265-90C0-DC7DAC51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80F-A3E5-4B7D-85E0-FCAC4AD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4DDB4-669F-43C0-8613-2F98E6B13C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