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33079"/>
        <c:axId val="19638134"/>
      </c:barChart>
      <c:catAx>
        <c:axId val="18333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38134"/>
        <c:crosses val="autoZero"/>
        <c:auto val="1"/>
        <c:lblAlgn val="ctr"/>
        <c:lblOffset val="100"/>
        <c:noMultiLvlLbl val="0"/>
      </c:catAx>
      <c:valAx>
        <c:axId val="19638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33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AEC-6506-4865-A3F9-07AD896E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C10-5F97-4EAE-8783-BFD9B9B5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2E2-8A21-45EB-9FFC-20DBA37E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97D-8086-45BF-B2AF-4385854C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5B4-F203-4C01-8958-10DB1334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B36-27C7-4039-8EF1-15B3B3B6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082-9C02-4DD4-B948-90C557AD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FEC-5335-4372-B228-96C7196D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97E-C2AF-41B9-A380-692BDD71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B82-66E5-4263-BA0B-63C83603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47C-129E-4E9D-B1BC-0BA60315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C2C-9D6E-4394-A3C6-00114D19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6711D-D300-4F47-88D0-B3D3B57FF4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