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43703"/>
        <c:axId val="57425566"/>
      </c:barChart>
      <c:catAx>
        <c:axId val="43343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25566"/>
        <c:crosses val="autoZero"/>
        <c:auto val="1"/>
        <c:lblAlgn val="ctr"/>
        <c:lblOffset val="100"/>
        <c:noMultiLvlLbl val="0"/>
      </c:catAx>
      <c:valAx>
        <c:axId val="57425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43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A9E-2A0F-4F12-B477-981207EA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878-0525-487E-9A62-A6EC3833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699-9309-4662-8B8E-606E9BB9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967-BFF3-4269-8428-08CBF053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855-145A-406E-AE57-1203ABF1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F32-BC52-4DB8-8051-AFB14639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B70-6A73-4B3E-8C7F-08724D71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C46-2DD7-4C0D-8F26-3783FB28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38B-61D5-40F6-AB4D-87887596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995-EDA7-454D-B6F0-31E9A689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1BB-820E-4AF1-A46C-0CBA4A9F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354-464F-4E78-8EA0-72CA44F4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C18E9-B2BC-4702-BF9D-A03EBC7B2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