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60135"/>
        <c:axId val="69357114"/>
      </c:barChart>
      <c:catAx>
        <c:axId val="72660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7114"/>
        <c:crosses val="autoZero"/>
        <c:auto val="1"/>
        <c:lblAlgn val="ctr"/>
        <c:lblOffset val="100"/>
        <c:noMultiLvlLbl val="0"/>
      </c:catAx>
      <c:valAx>
        <c:axId val="69357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60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4A6-D0BA-45D9-B964-CE383E0D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A04-EC60-49FD-A7C3-84227A0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873-D160-441F-A608-AAC5E503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B49-7898-4639-9A88-A0462672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1A1-A70C-4B20-A707-A791269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616-15FF-4598-89E4-78EB8C61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348-959E-4961-A30F-8E8424C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51B-BCFC-4998-BECA-DA097A09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B91-695C-4935-9F29-54D58FF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A62-6467-4B99-B6E6-15ED895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F72-8AC6-4677-8595-C67C70D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AAF-5D29-40B2-B275-8E03C40B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9BEE-13A5-4485-B90A-BEB1D861F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