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5568"/>
        <c:axId val="74344706"/>
      </c:barChart>
      <c:catAx>
        <c:axId val="12175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4706"/>
        <c:crosses val="autoZero"/>
        <c:auto val="1"/>
        <c:lblAlgn val="ctr"/>
        <c:lblOffset val="100"/>
        <c:noMultiLvlLbl val="0"/>
      </c:catAx>
      <c:valAx>
        <c:axId val="74344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5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02C-6CED-421C-A69B-5D4334BF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FB5-BFF8-4777-9582-E1794D1A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4E1-F2BF-4FDE-B8D9-87CC4D02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0FB-5669-4AFC-A63A-B50CBB06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2DE-8DDB-4607-93A7-9B1E552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D66-6801-41B1-B52A-3576CC5B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33A-EA3A-46F5-91B2-BB2E5B70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C27-10D8-42B6-B418-AD6916DA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9BD-C339-4C67-BB29-A0C27172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D95-7C55-40FD-953A-67F8958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E05-5DE7-495F-9A6B-ADA7271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7AB-D4A2-4609-9805-BFF6048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E24FD-F1E2-463F-8EF5-D967C12128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