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88520"/>
        <c:axId val="77677406"/>
      </c:barChart>
      <c:catAx>
        <c:axId val="63288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77406"/>
        <c:crosses val="autoZero"/>
        <c:auto val="1"/>
        <c:lblAlgn val="ctr"/>
        <c:lblOffset val="100"/>
        <c:noMultiLvlLbl val="0"/>
      </c:catAx>
      <c:valAx>
        <c:axId val="77677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88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F15-4EDC-4B7D-966A-FD4362B0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69FC-0259-49CA-9164-F56C5D3F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1EE-51F9-4493-9CA8-71A31E3F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CE9-5BF9-4635-A723-4734079C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9A5A-3E48-4519-88D4-98370E65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C6AD-ED26-4743-A207-40C044EB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5C35-FFF8-4118-B85D-11425F30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AD61-7978-4130-8A9D-88AA64CE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10EF-F4B9-4CE9-A4C0-ECF82E64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A4B-A443-4E4E-A1DB-C6ED7C04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E7DB-4EF7-4D7B-A694-9A0EAD89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A351-3F8C-4020-B0A0-9316BB03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5F012-DAAC-4B0F-9DAF-FA3ACB67D3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